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8F73-BF63-4202-A8EA-DF9DA8D65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F1A9-EA4F-4EA0-86CE-905B852EF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E1F1-0CDC-4D90-92FA-A66DFFB73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9AD5-6BAC-424A-9E82-2634CBFF9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B7A5-09E7-4B59-8CA6-8DADEF9D8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C789-6D1D-4FD4-A40D-40C6B0E94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EBFE-BC96-492B-8730-5CBCF9A2F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C078-50FA-44D9-BDCD-97B34AF96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32C9-A66C-4D03-90DC-AE691BB74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01AF-6523-4D97-90BC-2C4059AF4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EF9B-7301-4432-A781-1724CBCB9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6C08-B744-4F0C-B98A-8179942E5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FC7644-5795-460C-8952-B899F2629368}" type="slidenum"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979720"/>
            <a:ext cx="36576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100 лет со дня празднования Международного женского дня 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8 март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228600"/>
            <a:ext cx="3733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ОО «Женский голос»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й совет женщин при Мэре г. Томск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центр по атомной энерги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боратория социологических и гендерных исследований ТГПУ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5181480"/>
            <a:ext cx="457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543480" cy="525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68604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Times New Roman"/>
              </a:rPr>
              <a:t>Савицкая Светлана Евгеньевна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ервая в мире женщина-космонавт,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ышедшая в открытый космо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79440"/>
            <a:ext cx="83818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1965 г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8 март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учрежден как государственный праздни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7800" y="3198600"/>
            <a:ext cx="80125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1977 г.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ООН объявил этот день годом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борьбы за права женщин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189000"/>
            <a:ext cx="8686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катерина Филипповна Лахо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путат Государственной Думы России от партии «Единая Россия». Председатель Комитета по делам женщин, семьи и дете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572000" cy="510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962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219320" y="1981080"/>
            <a:ext cx="7500960" cy="181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doni MT Black"/>
              </a:rPr>
              <a:t>КАК ОТМЕЧАЮТ ПРАЗДНИК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doni MT Black"/>
              <a:ea typeface="Bodoni MT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doni MT Black"/>
              </a:rPr>
              <a:t>8 МАРТА СЕГОДН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doni MT Black"/>
              <a:ea typeface="Bodoni MT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609480" y="304920"/>
            <a:ext cx="78487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8 марта - выходной день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996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743200" y="304920"/>
            <a:ext cx="348624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Н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" y="384120"/>
            <a:ext cx="4952880" cy="601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714840" cy="4953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91120" cy="495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80880" y="228600"/>
            <a:ext cx="815364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Мерлин Монро 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признана самой сексуальной 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женщиной ХХ века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9000" y="2743200"/>
            <a:ext cx="2610000" cy="2095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браз для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дражания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иллионов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женщин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22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Заседание Государственной Думы РФ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ВСЕГО 42 женщины из 450 депутатов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537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2280"/>
            <a:ext cx="82296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Правительства Российской федерации 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ВСЕГО 3 женщины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4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2280"/>
            <a:ext cx="77724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Государственная Дума г.Томска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ВСЕГО 6 женщин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3520" y="152280"/>
            <a:ext cx="800100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Государственная Дума Томской области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ВСЕГО 6 женщин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"/>
          <p:cNvSpPr txBox="1"/>
          <p:nvPr/>
        </p:nvSpPr>
        <p:spPr>
          <a:xfrm>
            <a:off x="380880" y="22860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искриминация женщин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льнее всего проявляется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сфере труда и занятости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0" y="1295280"/>
            <a:ext cx="365760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АСИЛ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 семь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 отношен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женщины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БИЧ И ПОЗОР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ОБЩЕСТВА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28600"/>
            <a:ext cx="80773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ЭТО НЕ ДОПУСТИМО!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33520" y="152280"/>
            <a:ext cx="807696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свобода - права - ответственность - обязаннос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56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81480" y="685800"/>
            <a:ext cx="3962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лара Цеткин (1857-1933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втор идеи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Международног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женского дня 8 мар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52280" y="533520"/>
            <a:ext cx="8991720" cy="5105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8 марта это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не только ден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весны, любви и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чествования женщин,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но и международный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день женской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солидарности и защиты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прав женщин!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09480" y="685800"/>
            <a:ext cx="7848720" cy="518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ЗДРАВЛЯЕМ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МАРТА !!!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304920"/>
            <a:ext cx="83059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Демонстрация женщин в Петрограде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3 февраля 1917 г.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43400" y="3277080"/>
            <a:ext cx="44956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6—19 июня 1963 первой из женщин совершила полёт в космо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219320"/>
            <a:ext cx="3962160" cy="1676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Николаева-Терешкова 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Валентина Владимировна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79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72000" cy="6477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57800" y="1827000"/>
            <a:ext cx="3773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ётчик-космонавт ССС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ковник-инженер (197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рой Советского Союз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22.6. 1963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едатель Комитета советских женщин (с 196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це-президент Международной демократической федерации женщин (с 196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лен Всемирного Совета Мир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Именем Терешковой назван кратер на обратной стороне Лу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05520" y="304920"/>
            <a:ext cx="358128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Николаева-Терешкова 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Валентина Владимировна</a:t>
            </a:r>
            <a:endParaRPr b="1" lang="en-US" sz="20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os2</cp:lastModifiedBy>
  <dcterms:modified xsi:type="dcterms:W3CDTF">2011-03-04T10:16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