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06222-C13D-4665-9274-093DC6EA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C048-4718-4B34-A33E-D4D41DBF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3346-6084-4803-9CF9-BE3BE7DF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90313-03AE-47C8-AF36-99082217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A632-8D41-4FCB-9205-17DED44E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A51A-4ED4-4686-8509-27F6065C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FA8F-3928-4948-BA77-DCA85DA6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8348-B364-4CB6-9914-F2A805E0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A92A-664A-42AB-BFEC-030E99C3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3027-AFCA-41D0-AD4B-A9F89947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C1FD-A2E5-44A1-84AD-07439CC3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DDCB-A3CB-4FD1-AF25-AAE9CF1A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E0B9-BFAC-4600-AB2A-81BDDEA8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5615-E0B3-4FDA-8D36-F98EB055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1E21-CE13-499D-A0B6-8DA1C729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AFC5-D172-44ED-A9AF-5473B361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AC73-4D87-4B23-A6F8-1DE89BDE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DC1AC-EE2C-4266-B48B-49BF6CDE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8EC16-7954-4AF8-8F5F-EFA35935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2EDA-5095-4C3A-B248-1A0D8C6C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1A45-DAE3-4386-8005-68072B12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3284-99EC-4DC4-B13A-226AFC2A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A7B0-E5E5-4284-A070-6208372C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0E58-B72F-4923-A0FF-47B4CECD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6962B-F6B2-4940-841E-7E7BACCAB2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672E65C-80E3-4BCC-85E7-E443CCD711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668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42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99cc"/>
                </a:solidFill>
                <a:latin typeface="Arial"/>
              </a:rPr>
              <a:t>Вроцлав. Рату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05756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</a:rPr>
              <a:t>Берлинский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</a:rPr>
              <a:t>Пари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</a:rPr>
              <a:t>Париж. Лув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6094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</a:rPr>
              <a:t>Париж. Собор Парижской Богомат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</a:rPr>
              <a:t>Барсел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828960" cy="5105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-13563720" y="-11506320"/>
            <a:ext cx="27370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</a:rPr>
              <a:t>Барселона. Каскад Гау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</a:rPr>
              <a:t>Рим. Колиз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</a:rPr>
              <a:t>Капитолийская волч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</a:rPr>
              <a:t>Рим. Испанская лест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</a:rPr>
              <a:t>Рим. Собор Святого Пе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99cc"/>
                </a:solidFill>
                <a:latin typeface="Arial"/>
              </a:rPr>
              <a:t>Вроцлав. Рын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82896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</a:rPr>
              <a:t>Гданьск. Улица моряц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</a:rPr>
              <a:t>Величка. Соляные ру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</a:rPr>
              <a:t>Краков. Королевский зам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</a:rPr>
              <a:t>Прага. Карлов м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</a:rPr>
              <a:t>Прага. Собор Святого Вит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</a:rPr>
              <a:t>Берлин. Рейхст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99cc"/>
                </a:solidFill>
                <a:latin typeface="Arial"/>
              </a:rPr>
              <a:t>Берлин. Бранденбургские вор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EM</cp:lastModifiedBy>
  <dcterms:modified xsi:type="dcterms:W3CDTF">2011-09-12T17:13:2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